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88F0-545B-4C1F-B58B-13D9240A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BFD-8F93-4918-9D7F-E983E5D3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E3F-4638-4D80-BA1E-B4D1DAD5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BE4-057B-4F8C-9EE8-52DF0742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D80F-22F9-44D3-BB04-CFDF5060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992-0220-43BB-B988-33C69998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516-407B-4819-9D07-FC7B7462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A7F-37DC-4A2C-B0D8-C0AD2029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6A3-F6C9-47BF-BB75-C0F13565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EFC-45DF-4206-8D20-2301F14B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719E-088F-490F-A967-1875D281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3D6-5883-43E9-A256-58BF4928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7DD8-7282-4254-AB23-1E89ACE5D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48000" y="191628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CRE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P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48000" y="27082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CRE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TES DE SALID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MO P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48000" y="35002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RECEPCIONAR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IO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P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429264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 AL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INVENTARI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P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4320360" y="260028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4320360" y="418464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4320720" y="339228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3348000" y="508464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.- FINALIZAR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P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4320720" y="497664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4249080" y="1736280"/>
            <a:ext cx="359640" cy="1080"/>
          </a:xfrm>
          <a:prstGeom prst="bentConnector3">
            <a:avLst>
              <a:gd name="adj1" fmla="val 182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2700000" y="458064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79280" y="6937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890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1080" y="415800"/>
            <a:ext cx="109440" cy="135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91628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RESTA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RJETA DE BODEG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RJETA DE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2" idx="1"/>
            <a:endCxn id="56" idx="3"/>
          </p:cNvCxnSpPr>
          <p:nvPr/>
        </p:nvCxnSpPr>
        <p:spPr>
          <a:xfrm rot="10800000">
            <a:off x="2700000" y="220428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541440" y="2276640"/>
            <a:ext cx="14292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2" idx="1"/>
            <a:endCxn id="60" idx="3"/>
          </p:cNvCxnSpPr>
          <p:nvPr/>
        </p:nvCxnSpPr>
        <p:spPr>
          <a:xfrm flipV="1" rot="10800000">
            <a:off x="2700000" y="2996280"/>
            <a:ext cx="648000" cy="180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8" idx="1"/>
            <a:endCxn id="62" idx="3"/>
          </p:cNvCxnSpPr>
          <p:nvPr/>
        </p:nvCxnSpPr>
        <p:spPr>
          <a:xfrm rot="10800000">
            <a:off x="2700000" y="537264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539640" y="2709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440" y="305748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508464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 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1440" y="543240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429264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SUMA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RJETA DE BODEG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RJETA DE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1440" y="4640400"/>
            <a:ext cx="14292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35002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B. DE HONORARIO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CONTABILIZACIÓN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386064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51640" y="189000"/>
            <a:ext cx="3313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DEN DE 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00720" y="429264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GUIA DE COMPR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CONTABILIZACIÓN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465300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27082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FACTURA DE COMPR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CONTABILIZACIÓN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00720" y="306864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3"/>
            <a:endCxn id="69" idx="1"/>
          </p:cNvCxnSpPr>
          <p:nvPr/>
        </p:nvCxnSpPr>
        <p:spPr>
          <a:xfrm>
            <a:off x="5508720" y="3788280"/>
            <a:ext cx="792360" cy="79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3" idx="3"/>
            <a:endCxn id="71" idx="1"/>
          </p:cNvCxnSpPr>
          <p:nvPr/>
        </p:nvCxnSpPr>
        <p:spPr>
          <a:xfrm flipV="1">
            <a:off x="5508720" y="2996280"/>
            <a:ext cx="792360" cy="792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724360" y="3610080"/>
            <a:ext cx="36036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1" idx="0"/>
            <a:endCxn id="77" idx="2"/>
          </p:cNvCxnSpPr>
          <p:nvPr/>
        </p:nvCxnSpPr>
        <p:spPr>
          <a:xfrm flipV="1" rot="16200000">
            <a:off x="7272000" y="2599200"/>
            <a:ext cx="2163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9" idx="2"/>
            <a:endCxn id="79" idx="0"/>
          </p:cNvCxnSpPr>
          <p:nvPr/>
        </p:nvCxnSpPr>
        <p:spPr>
          <a:xfrm rot="16200000">
            <a:off x="7273440" y="497664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V="1" rot="10800000">
            <a:off x="4428360" y="566064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4094280" y="13320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68720" y="6021360"/>
            <a:ext cx="647640" cy="21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99280" y="1916280"/>
            <a:ext cx="216036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 / AÑO Nº DE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00720" y="11239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PA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7" idx="0"/>
            <a:endCxn id="83" idx="2"/>
          </p:cNvCxnSpPr>
          <p:nvPr/>
        </p:nvCxnSpPr>
        <p:spPr>
          <a:xfrm flipH="1" flipV="1" rot="5400000">
            <a:off x="7272000" y="1807560"/>
            <a:ext cx="2163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6300720" y="508464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AS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0072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PAG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 DE COMP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79" idx="2"/>
            <a:endCxn id="85" idx="0"/>
          </p:cNvCxnSpPr>
          <p:nvPr/>
        </p:nvCxnSpPr>
        <p:spPr>
          <a:xfrm rot="16200000">
            <a:off x="7273080" y="576900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5219640" y="605484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5" idx="1"/>
            <a:endCxn id="87" idx="3"/>
          </p:cNvCxnSpPr>
          <p:nvPr/>
        </p:nvCxnSpPr>
        <p:spPr>
          <a:xfrm rot="10800000">
            <a:off x="5867280" y="6162120"/>
            <a:ext cx="433800" cy="2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539640" y="342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A DESPACHO SO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SL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3776760"/>
            <a:ext cx="14292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57200" y="274680"/>
          <a:ext cx="8228880" cy="5851080"/>
        </p:xfrm>
        <a:graphic>
          <a:graphicData uri="http://schemas.openxmlformats.org/drawingml/2006/table">
            <a:tbl>
              <a:tblPr/>
              <a:tblGrid>
                <a:gridCol w="2911680"/>
                <a:gridCol w="2205000"/>
                <a:gridCol w="1555920"/>
                <a:gridCol w="1556280"/>
              </a:tblGrid>
              <a:tr h="34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2) Partes de Salida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os en Proce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1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encias Inven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1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3) Recepción de Servicios con Factura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encias Servic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1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cumentos por Contabiliz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1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5) Finalizar Produ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encias Inven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1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encias Servic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os en Proce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...</cp:lastModifiedBy>
  <dcterms:modified xsi:type="dcterms:W3CDTF">2013-01-08T12:15:26Z</dcterms:modified>
  <cp:revision>40</cp:revision>
  <dc:subject/>
  <dc:title>Diapositiva 1</dc:title>
</cp:coreProperties>
</file>